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84C7-99C5-4247-8687-38E18239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128-3A9D-417C-8F00-A82B5E7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6C3-A832-4DEA-A947-5525A9CC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AE7-E581-4DE7-AAFA-B5E04FEB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737-7B3A-4855-A224-E512E23B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368-EE31-4D1C-8DDD-FA7A70D2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729-8EA3-49C6-B9D9-14AA193F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A62-3AE6-475F-9894-5E3E4A56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BF2-9C93-4F86-AC9E-123B15C2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D6B-1F81-44AD-9157-A06DF364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0CE1-47C5-42A9-89F7-466D5B37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489-62AD-48C7-A683-88DE4832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07D7-E434-4A5B-A176-66ED78C54B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Георгиевская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ленто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3885840"/>
            <a:ext cx="4143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Час общения, посвященны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Дню Победы, 5 клас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лен учителем МОУ СОШ №20.г.Астрах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Куренко Ольгой Валентинов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1143000" y="314316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Рамка 4"/>
          <p:cNvSpPr/>
          <p:nvPr/>
        </p:nvSpPr>
        <p:spPr>
          <a:xfrm>
            <a:off x="3571920" y="0"/>
            <a:ext cx="2500200" cy="428760"/>
          </a:xfrm>
          <a:prstGeom prst="pie">
            <a:avLst/>
          </a:pr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том, насколько почетно было получить орден Святого Георгия 1-й степени, говорит, например, следующий факт. Выдающуюся награду Российской империи –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ндрея Первозва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лучило боле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ыся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А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вятого Георгия    1-й степе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Среди них великие полководцы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увор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утуз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ЮРА\Мои документы\Мои рисунки\2009-05-06\Scan10106.JPG"/>
          <p:cNvPicPr/>
          <p:nvPr/>
        </p:nvPicPr>
        <p:blipFill>
          <a:blip r:embed="rId1"/>
          <a:stretch/>
        </p:blipFill>
        <p:spPr>
          <a:xfrm>
            <a:off x="5072040" y="1357200"/>
            <a:ext cx="3571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 отличия — Георгиевский Крес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I степени из серебра с позолотой. На нижнем конце оборотной стороне креста — надпись: «1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Георгиевский Крест (I ст.)"/>
          <p:cNvPicPr/>
          <p:nvPr/>
        </p:nvPicPr>
        <p:blipFill>
          <a:blip r:embed="rId1"/>
          <a:stretch/>
        </p:blipFill>
        <p:spPr>
          <a:xfrm>
            <a:off x="928800" y="1857240"/>
            <a:ext cx="3500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ст из серебра с позолотой. На нижнем конце оборотной стороны креста — надпись: «2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Георгиевский Крест (II ст.)"/>
          <p:cNvPicPr/>
          <p:nvPr/>
        </p:nvPicPr>
        <p:blipFill>
          <a:blip r:embed="rId1"/>
          <a:stretch/>
        </p:blipFill>
        <p:spPr>
          <a:xfrm>
            <a:off x="642960" y="164304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Георгиевский Крест (III степени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3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Георгиевский Крест (III ст.)"/>
          <p:cNvPicPr/>
          <p:nvPr/>
        </p:nvPicPr>
        <p:blipFill>
          <a:blip r:embed="rId1"/>
          <a:stretch/>
        </p:blipFill>
        <p:spPr>
          <a:xfrm>
            <a:off x="785880" y="1714680"/>
            <a:ext cx="364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еоргиевский Крест (VI степен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4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ношении лент без крестов используется планка высотой 8 мм, 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Георгиевский Крест (IV ст.)"/>
          <p:cNvPicPr/>
          <p:nvPr/>
        </p:nvPicPr>
        <p:blipFill>
          <a:blip r:embed="rId1"/>
          <a:stretch/>
        </p:blipFill>
        <p:spPr>
          <a:xfrm>
            <a:off x="500040" y="164304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амый разгар битвы с фашистами в 1942   году был учрежден орден Отечественной войны. На нем тоже есть  Георгиевская лента – как символ связи с русской боевой традиц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ЮРА\Мои документы\Мои рисунки\Order_gpw1_rib.png"/>
          <p:cNvPicPr/>
          <p:nvPr/>
        </p:nvPicPr>
        <p:blipFill>
          <a:blip r:embed="rId1"/>
          <a:stretch/>
        </p:blipFill>
        <p:spPr>
          <a:xfrm>
            <a:off x="785880" y="235728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ЮРА\Мои документы\Мои рисунки\2009-05-06\150px-Orden_Ot_voine.jpg"/>
          <p:cNvPicPr/>
          <p:nvPr/>
        </p:nvPicPr>
        <p:blipFill>
          <a:blip r:embed="rId2"/>
          <a:stretch/>
        </p:blipFill>
        <p:spPr>
          <a:xfrm>
            <a:off x="2143080" y="22860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ины Александра Невского, дружинники Дмитрия Донского, солдаты Суворова и миллионы советских солдат шли в бой за Родину, за честь и свободу своей земли. И они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ЮРА\Мои документы\Мои рисунки\2009-05-06\Scan10107.JPG"/>
          <p:cNvPicPr/>
          <p:nvPr/>
        </p:nvPicPr>
        <p:blipFill>
          <a:blip r:embed="rId1"/>
          <a:stretch/>
        </p:blipFill>
        <p:spPr>
          <a:xfrm>
            <a:off x="4648320" y="1643040"/>
            <a:ext cx="4038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500200" y="285840"/>
            <a:ext cx="407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4929120" y="1857240"/>
            <a:ext cx="350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ция "Георгиевская ленточка-2009" пройдет с 24 апреля по 9 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оприятие приурочено к 64-й годовщине Победы в Великой Отечественной войне. В этом году акция будет проходить пятый год подря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214720" y="357120"/>
            <a:ext cx="2714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ЮРА\Мои документы\Мои рисунки\left_bg.jpg"/>
          <p:cNvPicPr/>
          <p:nvPr/>
        </p:nvPicPr>
        <p:blipFill>
          <a:blip r:embed="rId1"/>
          <a:stretch/>
        </p:blipFill>
        <p:spPr>
          <a:xfrm>
            <a:off x="571680" y="214200"/>
            <a:ext cx="7858080" cy="59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7400" y="274680"/>
            <a:ext cx="4071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9 Ма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евская лента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оргиевская ленточ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642960" y="192888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вятой Георгий – великомучен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ЮРА\Мои документы\Мои рисунки\2009-05-06\Копия Scan10104.JPG"/>
          <p:cNvPicPr/>
          <p:nvPr/>
        </p:nvPicPr>
        <p:blipFill>
          <a:blip r:embed="rId1"/>
          <a:stretch/>
        </p:blipFill>
        <p:spPr>
          <a:xfrm>
            <a:off x="714240" y="1643040"/>
            <a:ext cx="37864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иконах святой Георгий изображается сидящим на белом коне и поражающим копьем змея. Это изображение основано на предании     и относится к посмертным чудесам святого великомученика Георгия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ЮРА\Мои документы\Мои рисунки\2009-05-06\Scan10103.JPG"/>
          <p:cNvPicPr/>
          <p:nvPr/>
        </p:nvPicPr>
        <p:blipFill>
          <a:blip r:embed="rId1"/>
          <a:stretch/>
        </p:blipFill>
        <p:spPr>
          <a:xfrm>
            <a:off x="4643280" y="642960"/>
            <a:ext cx="39294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ЮРА\Мои документы\Мои рисунки\2009-05-06\Scan10104.JPG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Святого Геор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428760" y="17859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4d1d"/>
                </a:solidFill>
                <a:latin typeface="Calibri"/>
              </a:rPr>
              <a:t>Орденом награждал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, кто «лично предводительствуя войском, одержит над неприятелем, в значительных силах состоящим, полную победу, последствием которой будет совершенное его уничтоже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лично предводительствуя войском, возьмет крепос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взятие неприятельского знамени, захват в плен главнокомандующего неприятельского войска и другие выдающиеся подв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72880"/>
            <a:ext cx="296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награждения орде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раз выдавалась низшая, 4 ступень, в следующий раз более высокая 3-я, далее 2-я и, наконец, совершивший четвертый выдающийся подвиг мог быть представлен к награждению орденом Святого Гео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й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500040" y="2071800"/>
            <a:ext cx="3000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09:46Z</dcterms:created>
  <dc:creator>Юра</dc:creator>
  <dc:description/>
  <dc:language>en-US</dc:language>
  <cp:lastModifiedBy>Admin</cp:lastModifiedBy>
  <dcterms:modified xsi:type="dcterms:W3CDTF">2012-04-19T20:07:59Z</dcterms:modified>
  <cp:revision>26</cp:revision>
  <dc:subject/>
  <dc:title>Слайд 1</dc:title>
</cp:coreProperties>
</file>